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4C8B3-4149-423A-9AE1-BD2C7DB79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F0B35-060E-493B-8A2B-5B35F588A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12DB4-CBD6-4F78-ADA0-E67E95F89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240A4-8B3C-4C2E-A63E-CD500DACD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63048-582D-4537-9DD7-3FE887254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D5F2B-A27A-48D3-BCFD-50CEC3E62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749E8-5263-4894-8299-DDA06800D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8E094-D624-49D3-8C93-6250A31E7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E69EF-AEAB-49DB-AA61-12B228E85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7AE85-1B25-4C17-A204-6ED1A9D07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D3B0C-B9D3-4293-B1CC-C28BA300C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D2C53-B803-4E7C-9F38-EF34971E6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CCE88-D2B3-4FEC-BE74-ECEDA52EC4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7679" t="6561" r="9907" b="5746"/>
          <a:stretch/>
        </p:blipFill>
        <p:spPr>
          <a:xfrm>
            <a:off x="549360" y="468360"/>
            <a:ext cx="5400720" cy="77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rcRect l="4477" t="9407" r="3721" b="15174"/>
          <a:stretch/>
        </p:blipFill>
        <p:spPr>
          <a:xfrm>
            <a:off x="333360" y="684360"/>
            <a:ext cx="6219720" cy="161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3T14:43:09Z</dcterms:created>
  <dc:creator>Alain Gaudry</dc:creator>
  <dc:description/>
  <dc:language>en-US</dc:language>
  <cp:lastModifiedBy>Alain Gaudry</cp:lastModifiedBy>
  <dcterms:modified xsi:type="dcterms:W3CDTF">2006-04-03T14:45:04Z</dcterms:modified>
  <cp:revision>1</cp:revision>
  <dc:subject/>
  <dc:title>Diapositive 1</dc:title>
</cp:coreProperties>
</file>